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8.pct" ContentType="image/x-pict"/>
  <Override PartName="/ppt/media/image27.png" ContentType="image/png"/>
  <Override PartName="/ppt/media/image24.pct" ContentType="image/x-pict"/>
  <Override PartName="/ppt/media/image21.png" ContentType="image/png"/>
  <Override PartName="/ppt/media/image23.png" ContentType="image/png"/>
  <Override PartName="/ppt/media/image11.pct" ContentType="image/x-pict"/>
  <Override PartName="/ppt/media/image6.pct" ContentType="image/x-pict"/>
  <Override PartName="/ppt/media/image29.pct" ContentType="image/x-pict"/>
  <Override PartName="/ppt/media/image13.pct" ContentType="image/x-pict"/>
  <Override PartName="/ppt/media/image25.png" ContentType="image/png"/>
  <Override PartName="/ppt/media/image2.png" ContentType="image/png"/>
  <Override PartName="/ppt/media/image32.png" ContentType="image/png"/>
  <Override PartName="/ppt/media/image8.pct" ContentType="image/x-pict"/>
  <Override PartName="/ppt/media/image33.pct" ContentType="image/x-pict"/>
  <Override PartName="/ppt/media/image9.pct" ContentType="image/x-pict"/>
  <Override PartName="/ppt/media/image22.png" ContentType="image/png"/>
  <Override PartName="/ppt/media/image10.pct" ContentType="image/x-pict"/>
  <Override PartName="/ppt/media/image5.png" ContentType="image/png"/>
  <Override PartName="/ppt/media/image7.png" ContentType="image/png"/>
  <Override PartName="/ppt/media/image4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31.pct" ContentType="image/x-pict"/>
  <Override PartName="/ppt/media/image1.pct" ContentType="image/x-pict"/>
  <Override PartName="/ppt/media/image12.pct" ContentType="image/x-pict"/>
  <Override PartName="/ppt/media/image15.png" ContentType="image/png"/>
  <Override PartName="/ppt/media/image17.pct" ContentType="image/x-pict"/>
  <Override PartName="/ppt/media/image18.png" ContentType="image/png"/>
  <Override PartName="/ppt/media/image20.png" ContentType="image/png"/>
  <Override PartName="/ppt/media/image16.pct" ContentType="image/x-pict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711-74B1-4E72-A72E-DA0DAAC0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EAA-50DB-49E1-8F5C-F8C3BEFF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4644-C8E4-4CEE-A655-96E524BD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31E-DC29-4AFF-B8C5-204167FF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D43-0F6F-4E5D-92B3-5CE8278A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372-E820-4A48-87FA-42B6F00C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740-D1B0-48AE-99CD-E50C53B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1BF-4A87-4155-9B92-66BC7B83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A94-120E-4746-8C51-CE6BA351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CA8-B132-435D-B717-56AA6FB9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315E-6162-45C5-8F57-E58581D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140D-D3DC-4CE9-9D7B-FA775B4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8F3B-DB67-4C77-9B9E-96572552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3818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Times New Roman"/>
              </a:rPr>
              <a:t>Nutrition and Your Health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600200"/>
          <a:ext cx="2514600" cy="22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2514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58000" y="5029200"/>
            <a:ext cx="190512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808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any people are unable to distinguish between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appetite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hunger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.  They eat past the point of being full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380880"/>
            <a:ext cx="8382240" cy="46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utrition Throughout Your Li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utri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he process by which the body takes in and uses f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200400"/>
          <a:ext cx="26510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00400"/>
                    <a:ext cx="26510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-25560"/>
            <a:ext cx="8382240" cy="69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Good Nutrition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have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stay mentally al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feel and look your b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prevent chronic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eart disease, cancer, diabetes, strok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808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esson 2:  Nutrients: Carbohydrates, Proteins, and Fa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791320" y="3886200"/>
          <a:ext cx="2990880" cy="18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3886200"/>
                    <a:ext cx="299088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990720" y="3124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1240" y="394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51240" y="303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84760" y="371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733920" y="4114800"/>
          <a:ext cx="1482480" cy="241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4114800"/>
                    <a:ext cx="148248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57200" y="4191120"/>
          <a:ext cx="2222640" cy="16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91120"/>
                    <a:ext cx="2222640" cy="16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0"/>
            <a:ext cx="853416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Carbohydrate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ches and sugars found in food.  Body’s preferred source of energy.  55-65% of daily calories should come from carbohydrates. (4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Simple carbohydrates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”sugar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omplex carbohydrates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”starch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380880"/>
            <a:ext cx="84582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Fib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found in the tough, stringy part of vegetables, fruits, and other grains.  Special form of complex carbohydrates.  Helps moves waste through the digestive 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09480" y="4270320"/>
          <a:ext cx="156384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270320"/>
                    <a:ext cx="156384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791320" y="4343400"/>
          <a:ext cx="2249280" cy="20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343400"/>
                    <a:ext cx="22492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28600"/>
            <a:ext cx="8458200" cy="66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aterials that help build and maintain body tissues. (4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complete 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contain 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ino acids that body nee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incomplete prote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lacks som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essential amino acids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380880"/>
            <a:ext cx="8610480" cy="73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Fats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ype of lipid that does not dissolve in water. ( 9 calories per gra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atur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holds all the hydrogen atoms it can.  Usually solid at room temperature. High intakes associated with the risk of heart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429000" y="1905120"/>
          <a:ext cx="206532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905120"/>
                    <a:ext cx="206532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304920"/>
            <a:ext cx="86868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-Unsaturat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issing one or more pairs of hydrogen atoms. Usually a liquid at room temperature.  Associated with reduced risk of heart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00400" y="2895480"/>
          <a:ext cx="235728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895480"/>
                    <a:ext cx="235728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8240"/>
            <a:ext cx="8610480" cy="68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ole of Fa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arry vitamins into your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add flavor to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satisfy hu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Body F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cushions/protects vital org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insulates your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666880" y="1219320"/>
          <a:ext cx="429912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219320"/>
                    <a:ext cx="42991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33520" y="533520"/>
            <a:ext cx="815328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esson 1:  Food in Your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hy Do You Ea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utrient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substances in food that your body needs to function properly to grow, to repair itself, and to supply you with energ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80880"/>
            <a:ext cx="838224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Times New Roman"/>
              </a:rPr>
              <a:t>Nutrients:  Vitamins, Minerals and Wate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380880"/>
            <a:ext cx="845820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unds that help regulate many vital body processes, including the digestion, absorption, and metabolism of other nutri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icronutri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”-needed in small amou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0"/>
            <a:ext cx="8382240" cy="69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wo Kinds of Vitami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ater sol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dissolve in wat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itamins C, 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Fat Solub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absorbed and transported by f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itamins, A,D,E, 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cess buildup of these vitamins can have a damaging effect on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30492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ample of Vitami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76320" y="1523880"/>
            <a:ext cx="92203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protects against inf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use of calc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Vitamin K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essential for blood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o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600200"/>
            <a:ext cx="8077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organi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ubstances that the bod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ANNO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manufacture but that act as catalysts, regulating many vital body proces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Important Minerals for Tee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905120"/>
            <a:ext cx="81532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Ir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essential for hemoglobin in bloo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657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alcium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helps develop and maintain bone structure, muscle contraction, and blood clot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380880"/>
            <a:ext cx="83059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Sodium, Chloride, Potassiu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electrolytes”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become electrically charged when in a s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Wa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457200" y="990720"/>
            <a:ext cx="1005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ST IMPORTANT NUTR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76520"/>
            <a:ext cx="838224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s up greatest percentage of bo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gulator, Lubricates joints and membranes.  Swallow and digest food.  Eliminates waste.  Prevents overheat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sson 4:  Guidelines for a Healthy Eating Sty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1377720" cy="157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1413000" cy="146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3868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80880" y="42670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2286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commended Dietary Allowances  (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D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2666880"/>
            <a:ext cx="8153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mount of nutrients that will prevent deficiencies and excess in most healthy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57200"/>
            <a:ext cx="8229600" cy="63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ting habits stem fro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hysical ne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food,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sychological desi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or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arning to recognize the difference between the two will help you make more healthful food choi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Dietary Guidelines for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56604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.  Eat a variety of foo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566040" cy="47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50292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d Guide Pyramid-graphic tool for expressing the dietary guideli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28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 Balance Food with Physical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534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Get rid of sedentary lifesty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Control body fat, not necessarily we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All calories add up, no matter what their sour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 Choose plenty of grain, produce, vegetables, and fru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705720" cy="3899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899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.  Choose an eating style low in fat, saturated fat, and cholester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43200" y="2438280"/>
          <a:ext cx="426708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426708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flipV="1">
            <a:off x="3352680" y="2133720"/>
            <a:ext cx="3505320" cy="25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133720"/>
            <a:ext cx="3809880" cy="2590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286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.  Choose an eating style moderate in suga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1663560" cy="1177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2103480" cy="3848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.  Choose an eating style moderate in salt and sodi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2514600"/>
          <a:ext cx="4662720" cy="31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514600"/>
                    <a:ext cx="46627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velop a healthful eating patter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362320"/>
            <a:ext cx="80773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Varie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Moder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-Bala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Lesson 5:  Being a Smart Food Con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590920" y="2895480"/>
          <a:ext cx="5208480" cy="22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95480"/>
                    <a:ext cx="520848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533520"/>
            <a:ext cx="7924680" cy="56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Body’s Physical Need for Foo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Most basic reason for eating is phys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ung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natural drive (inborn response) that protects you from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2590920"/>
          <a:ext cx="213372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213372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30492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tritional Facts Panel found on almost all food packages can help you judge whether or not a product will meet your nutritional nee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352680" y="3886200"/>
          <a:ext cx="393696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886200"/>
                    <a:ext cx="39369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V="1">
            <a:off x="5638680" y="4114800"/>
            <a:ext cx="16002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utrition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2280" y="22860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utrition Label Contain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14300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-serving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057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c99"/>
                </a:solidFill>
                <a:latin typeface="Times New Roman"/>
              </a:rPr>
              <a:t>-servings per contain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04812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-calories per serving and calories from f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-percentage of Daily Value of nutri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492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lmost all foods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an “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ngredient Li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-list of ingredients in the product. Listed by weight in descending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86200"/>
            <a:ext cx="441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gredient in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greate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amount listed fir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81080" y="3276720"/>
          <a:ext cx="2014560" cy="32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201456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2286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ood Additive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substances added to food intentionally to produce a desired effec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3471840"/>
            <a:ext cx="85341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dd nutrients, give flavor, maintain texture, give color, lengthen storage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228600"/>
            <a:ext cx="5715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Enrich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food in which nutrients that were lost in processing have been added ba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6576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5228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Fortificati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addition of nutrients that are NOT normally  pres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791320" y="1828800"/>
          <a:ext cx="2103480" cy="45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828800"/>
                    <a:ext cx="21034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Other Nutritional Term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762120"/>
            <a:ext cx="8915400" cy="59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Health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food is low in fat and saturated fat and contains limited amounts of sodium and cholester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Lit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calories have been reduc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Les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product contains 25% less of a nutrient or calories of a comparable f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380880"/>
            <a:ext cx="868680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product contains no amount or slight amount of fat, cholesterol, sodium, sugar, and/or calo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s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food is raw, unprocessed contains no preservativ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atur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meat and poultry only. Food is minimally processed with no artificial or synthetic ingredi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Open Dat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914400"/>
            <a:ext cx="8534160" cy="61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iration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last date you should USE the produ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reshness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st date a food is THOUGHT to be fre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ck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the date on which the product was PACKAGE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ell Date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ast date the product should be so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Unit Pric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523880"/>
            <a:ext cx="82296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rategy for recognizing the relative cost of a product based on the cost of a standard unit such as an ounce or gra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.  8 oz. Can for $.88 vs. 12 oz. Can for $1.0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19320" y="1295280"/>
          <a:ext cx="6705360" cy="48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705360" cy="48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380880"/>
            <a:ext cx="8839080" cy="48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Your Mind’s Desire for Foo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ppetite</a:t>
            </a:r>
            <a:r>
              <a:rPr b="0" lang="en-US" sz="4800" spc="-1" strike="noStrike">
                <a:solidFill>
                  <a:srgbClr val="00cc99"/>
                </a:solidFill>
                <a:latin typeface="Times New Roman"/>
              </a:rPr>
              <a:t>-a desire, rather than a need to eat. Appetite is a learned respon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0"/>
            <a:ext cx="8458200" cy="79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umber of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environmental factor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at influence your food choic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ultur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your surroundings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r ethnic background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ligious belief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Family and Friend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as a child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st influence came fro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mily.  Now most from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ie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391520" y="2590920"/>
          <a:ext cx="144756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590920"/>
                    <a:ext cx="1447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19920" y="3352680"/>
          <a:ext cx="25905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352680"/>
                    <a:ext cx="25905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57200"/>
            <a:ext cx="8458200" cy="64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dvertis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many people believe everything that they hear on TV or read in a newspaper.  Millions of dollars are spent on powerful persua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ime and Mone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oday’s busy lifestyles cause people to want something that they can cook and eat quick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164360" y="0"/>
          <a:ext cx="1979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0"/>
                    <a:ext cx="1979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808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Emo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boredom, stress, depression.  Eat or not able to eat when you are upse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408720" y="1905120"/>
          <a:ext cx="220176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8720" y="1905120"/>
                    <a:ext cx="220176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457200"/>
            <a:ext cx="830592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YOUR EATING HABI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ing is linked to six out of ten leading causes of death in the United States, including heart disease, stroke, and canc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WHY??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0:56:42Z</dcterms:created>
  <dc:creator>Beth M. Little</dc:creator>
  <dc:description/>
  <dc:language>en-US</dc:language>
  <cp:lastModifiedBy>Chatham County Schools</cp:lastModifiedBy>
  <dcterms:modified xsi:type="dcterms:W3CDTF">2005-09-14T14:57:15Z</dcterms:modified>
  <cp:revision>82</cp:revision>
  <dc:subject/>
  <dc:title>No Slide Title</dc:title>
</cp:coreProperties>
</file>